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2B20-C664-48C0-A3A2-9DD3B752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248-B4AF-43D8-B71D-FA84094F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E56-5DFA-4BE6-8F57-F0781812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D2C-2F8F-4705-828E-D40E5994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097C-11FA-4242-8A65-E35CF65A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A72-DA3F-4C3D-A66F-5F7D1CC4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E5C-4DEF-454A-A69D-EE87E682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9AF-7392-490B-BA1A-A50DE831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6CA-894A-429F-936B-8994093D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2AF-A26A-41C9-8D7B-17779D64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F71C-1175-426C-9890-C11800C6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2D6-72C9-45AE-95F1-55260E01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554F-80E5-4072-B316-224B1F76F86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룹 8" descr=""/>
          <p:cNvPicPr/>
          <p:nvPr/>
        </p:nvPicPr>
        <p:blipFill>
          <a:blip r:embed="rId1"/>
          <a:stretch/>
        </p:blipFill>
        <p:spPr>
          <a:xfrm>
            <a:off x="1071720" y="1714680"/>
            <a:ext cx="7029360" cy="4162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566880" y="692280"/>
            <a:ext cx="20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꿈의숲 아트센터 콘서트홀 무대사이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808200" y="602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Line 7"/>
          <p:cNvSpPr/>
          <p:nvPr/>
        </p:nvSpPr>
        <p:spPr>
          <a:xfrm flipV="1">
            <a:off x="1785960" y="1213920"/>
            <a:ext cx="0" cy="57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429680" y="1213920"/>
            <a:ext cx="0" cy="57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Line 9"/>
          <p:cNvSpPr/>
          <p:nvPr/>
        </p:nvSpPr>
        <p:spPr>
          <a:xfrm flipV="1">
            <a:off x="1071720" y="55008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Line 10"/>
          <p:cNvSpPr/>
          <p:nvPr/>
        </p:nvSpPr>
        <p:spPr>
          <a:xfrm flipV="1">
            <a:off x="8072280" y="55008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7358040" y="178596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8001000" y="550080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1071720" y="6072120"/>
            <a:ext cx="6956280" cy="2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1835280" y="155736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8317080" y="178596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3948480" y="601488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300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4092840" y="11970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000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18"/>
          <p:cNvSpPr/>
          <p:nvPr/>
        </p:nvSpPr>
        <p:spPr>
          <a:xfrm rot="16200000">
            <a:off x="7788240" y="3168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750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4775760" y="2133720"/>
            <a:ext cx="14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무대높이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60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7:17:41Z</dcterms:created>
  <dc:creator>세종문화회관</dc:creator>
  <dc:description/>
  <dc:language>en-US</dc:language>
  <cp:lastModifiedBy>세종문화회관</cp:lastModifiedBy>
  <dcterms:modified xsi:type="dcterms:W3CDTF">2012-03-21T00:37:46Z</dcterms:modified>
  <cp:revision>14</cp:revision>
  <dc:subject/>
  <dc:title>슬라이드 1</dc:title>
</cp:coreProperties>
</file>